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13.jpeg" ContentType="image/jpeg"/>
  <Override PartName="/ppt/media/Track12.wav" ContentType="audio/x-wav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E65-BF05-4C85-BC39-B68F581A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F85-6CC5-44B9-8657-CE40682D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A38-5228-4715-A33B-729FA9AB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5B2-BEDE-4C41-A108-B1CFA4CF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414-5C9D-4522-9F01-9897B2B1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374-695A-4E34-8612-0710FA25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D56-E8D8-459A-BE1A-366C4723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09B-CD70-470D-BE1D-363351EF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952-6953-4EFA-AEB9-69D6FD3F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07D-18FC-4443-A5B2-A532A9CB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64D-B3C4-4486-9214-C2AF2C2B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183-648D-4E5F-AFC2-1198449B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C316-5339-4529-BFD8-168411B5C8B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ck12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280" y="838080"/>
            <a:ext cx="3095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y maestra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wheel spokes="8"/>
    <p:sndAc>
      <p:stSnd>
        <p:snd r:embed="rId2" name="Track1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648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57880" y="0"/>
            <a:ext cx="46861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752480" y="609480"/>
            <a:ext cx="5743800" cy="1295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En qué otro lugar recibir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regalo de sonrisas como éstas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9000">
    <p:split dir="in" orient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828800" y="1523880"/>
            <a:ext cx="5867280" cy="194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En qué otro siti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 harían un retrato gratis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19240" y="457200"/>
            <a:ext cx="4886280" cy="1371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En qué lugar mis palabr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usan tanto asombro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pull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191120" y="457200"/>
            <a:ext cx="4752720" cy="1600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En qué trabaj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ando faltas dos dí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 reciben con los brazos abiertos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wipe dir="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648320" y="838080"/>
            <a:ext cx="4019400" cy="2133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¿Dónde puedes ve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en primera fil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la ejecución d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grandes obras de arte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p:transition spd="slow" advTm="9000">
    <p:pull dir="l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80880" y="4114800"/>
            <a:ext cx="4848480" cy="2495520"/>
            <a:chOff x="380880" y="4114800"/>
            <a:chExt cx="4848480" cy="2495520"/>
          </a:xfrm>
        </p:grpSpPr>
        <p:sp>
          <p:nvSpPr>
            <p:cNvPr id="89" name=""/>
            <p:cNvSpPr txBox="1"/>
            <p:nvPr/>
          </p:nvSpPr>
          <p:spPr>
            <a:xfrm>
              <a:off x="380880" y="4114800"/>
              <a:ext cx="4848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¿Dónde conservaría el alma joven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457200" y="4648320"/>
              <a:ext cx="37051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ino en medio de un grupo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533520" y="5181480"/>
              <a:ext cx="4200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uya atención es tan efímera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533520" y="5715000"/>
              <a:ext cx="44481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que siempre debo tener a mano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533520" y="6248520"/>
              <a:ext cx="32763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na caja de sorpresa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-9360" y="0"/>
            <a:ext cx="9305640" cy="6858000"/>
            <a:chOff x="-9360" y="0"/>
            <a:chExt cx="9305640" cy="68580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5105520" y="3403440"/>
              <a:ext cx="4190760" cy="34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-9360" y="0"/>
              <a:ext cx="2414520" cy="3505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0000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3429000" y="4267080"/>
            <a:ext cx="5572080" cy="1523880"/>
            <a:chOff x="3429000" y="4267080"/>
            <a:chExt cx="5572080" cy="1523880"/>
          </a:xfrm>
        </p:grpSpPr>
        <p:sp>
          <p:nvSpPr>
            <p:cNvPr id="99" name=""/>
            <p:cNvSpPr txBox="1"/>
            <p:nvPr/>
          </p:nvSpPr>
          <p:spPr>
            <a:xfrm>
              <a:off x="3429000" y="4267080"/>
              <a:ext cx="54198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 Black"/>
                </a:rPr>
                <a:t>¿En qué otro sitio derramaría lágrimas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3581280" y="4895640"/>
              <a:ext cx="54198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 Black"/>
                </a:rPr>
                <a:t>porque hay que dar por terminado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3581280" y="5429160"/>
              <a:ext cx="41338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 Black"/>
                </a:rPr>
                <a:t>un año de relaciones felices?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 advTm="8000"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429000" y="4114800"/>
            <a:ext cx="3962520" cy="1181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 siento grand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abajando con pequeñ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80880" y="152280"/>
            <a:ext cx="609624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todas las maestras y maestr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 tanto siembran para que otros recojan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¡Gracias maestras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7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80880" y="152280"/>
            <a:ext cx="7620120" cy="1086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gracias también a vosotros, que trabajáis con niñ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educación especial, tan especiales y maravilloso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676520"/>
            <a:ext cx="7324920" cy="723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cias a los compañeros de música, por creer, crea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cultivar el arte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2971800"/>
            <a:ext cx="7115040" cy="723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cias, compañeros de educación física, que c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uestro trabajo hacéis más fácil el de todo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4267080"/>
            <a:ext cx="7829640" cy="723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cias a los que trabajais en la escuela rural, y sabé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 que es enseñar con frío, goteras y en soledad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5486400"/>
            <a:ext cx="65055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cias a todos mis compañeros de idiomas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6324480"/>
            <a:ext cx="13334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todos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27000">
    <p:strips dir="r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990720" y="1752480"/>
            <a:ext cx="7695720" cy="2266200"/>
            <a:chOff x="990720" y="1752480"/>
            <a:chExt cx="7695720" cy="2266200"/>
          </a:xfrm>
        </p:grpSpPr>
        <p:sp>
          <p:nvSpPr>
            <p:cNvPr id="45" name=""/>
            <p:cNvSpPr txBox="1"/>
            <p:nvPr/>
          </p:nvSpPr>
          <p:spPr>
            <a:xfrm>
              <a:off x="1082880" y="1752480"/>
              <a:ext cx="6865920" cy="57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uando digo que soy maestra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1082880" y="2598840"/>
              <a:ext cx="7603560" cy="57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la gente, en general, responde con un "¡Ah!"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990720" y="3444480"/>
              <a:ext cx="7407720" cy="57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n soso, que me gustaría exclamar: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 advTm="8000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676520" y="2438280"/>
            <a:ext cx="4724280" cy="2438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093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Escolar1"/>
              </a:rPr>
              <a:t>Gracia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fffff"/>
                  </a:gs>
                </a:gsLst>
                <a:lin ang="5400000"/>
              </a:gradFill>
              <a:latin typeface="Escolar1"/>
              <a:ea typeface="Escolar1"/>
            </a:endParaRPr>
          </a:p>
        </p:txBody>
      </p:sp>
    </p:spTree>
  </p:cSld>
  <p:transition spd="slow"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80880" y="762120"/>
            <a:ext cx="5286600" cy="1581120"/>
            <a:chOff x="380880" y="762120"/>
            <a:chExt cx="5286600" cy="1581120"/>
          </a:xfrm>
        </p:grpSpPr>
        <p:sp>
          <p:nvSpPr>
            <p:cNvPr id="49" name=""/>
            <p:cNvSpPr txBox="1"/>
            <p:nvPr/>
          </p:nvSpPr>
          <p:spPr>
            <a:xfrm>
              <a:off x="380880" y="762120"/>
              <a:ext cx="52866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</a:rPr>
                <a:t>¿Dónde más podría atar lazos al pelo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457200" y="1371600"/>
              <a:ext cx="25812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</a:rPr>
                <a:t>ajustar cinturones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457200" y="1981080"/>
              <a:ext cx="49150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</a:rPr>
                <a:t>y ver un desfile de modas a diario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65600" y="304920"/>
            <a:ext cx="4478400" cy="6553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5718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457200" y="380880"/>
            <a:ext cx="7696080" cy="1047960"/>
            <a:chOff x="457200" y="380880"/>
            <a:chExt cx="7696080" cy="1047960"/>
          </a:xfrm>
        </p:grpSpPr>
        <p:sp>
          <p:nvSpPr>
            <p:cNvPr id="56" name=""/>
            <p:cNvSpPr txBox="1"/>
            <p:nvPr/>
          </p:nvSpPr>
          <p:spPr>
            <a:xfrm>
              <a:off x="457200" y="380880"/>
              <a:ext cx="76960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¿Dónde, aunque siempre me vista de la misma manera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609480" y="1066680"/>
              <a:ext cx="493416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e dirán que mi vestido es bonito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 advTm="8000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04920" y="304920"/>
            <a:ext cx="4943520" cy="1428480"/>
            <a:chOff x="304920" y="304920"/>
            <a:chExt cx="4943520" cy="1428480"/>
          </a:xfrm>
        </p:grpSpPr>
        <p:sp>
          <p:nvSpPr>
            <p:cNvPr id="60" name=""/>
            <p:cNvSpPr txBox="1"/>
            <p:nvPr/>
          </p:nvSpPr>
          <p:spPr>
            <a:xfrm>
              <a:off x="304920" y="304920"/>
              <a:ext cx="31906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¿En qué sitio, sino allí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80880" y="838080"/>
              <a:ext cx="486756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e abrazaría un apuesto jovencito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380880" y="1371600"/>
              <a:ext cx="36385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y me dirá que me quiere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 advTm="8000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33520" y="4648320"/>
            <a:ext cx="464796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Dónde eres tan important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 hasta le has de limpiar los moc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la estrella del desfile?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533520" y="5200560"/>
            <a:ext cx="6067440" cy="1428840"/>
            <a:chOff x="533520" y="5200560"/>
            <a:chExt cx="6067440" cy="1428840"/>
          </a:xfrm>
        </p:grpSpPr>
        <p:sp>
          <p:nvSpPr>
            <p:cNvPr id="67" name=""/>
            <p:cNvSpPr txBox="1"/>
            <p:nvPr/>
          </p:nvSpPr>
          <p:spPr>
            <a:xfrm>
              <a:off x="533520" y="5200560"/>
              <a:ext cx="54385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 Black"/>
                </a:rPr>
                <a:t>¿En qué otra parte olvidaría mis penas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533520" y="5734080"/>
              <a:ext cx="606744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 Black"/>
                </a:rPr>
                <a:t>porque tengo que atender tantos arañazos,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533520" y="6267240"/>
              <a:ext cx="40860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 Black"/>
                </a:rPr>
                <a:t>cocos y corazones afligi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slow" advTm="8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09480" y="5638680"/>
            <a:ext cx="46958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Quién recibe más flores que yo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6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4876920"/>
            <a:ext cx="530532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Dónde más podría guiar</a:t>
            </a:r>
            <a:endParaRPr b="0" lang="en-US" sz="2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 la escritura de las primeras letras,</a:t>
            </a:r>
            <a:endParaRPr b="0" lang="en-US" sz="2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a manita que quizás algún día</a:t>
            </a:r>
            <a:endParaRPr b="0" lang="en-US" sz="2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criba un libro?</a:t>
            </a:r>
            <a:endParaRPr b="0" lang="en-US" sz="2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randomBa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2:20:38Z</dcterms:created>
  <dc:creator> </dc:creator>
  <dc:description/>
  <dc:language>en-US</dc:language>
  <cp:lastModifiedBy>*</cp:lastModifiedBy>
  <dcterms:modified xsi:type="dcterms:W3CDTF">2008-07-02T20:25:35Z</dcterms:modified>
  <cp:revision>52</cp:revision>
  <dc:subject/>
  <dc:title>Presentación de PowerPoint</dc:title>
</cp:coreProperties>
</file>