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1.png" ContentType="image/png"/>
  <Override PartName="/ppt/media/image13.jpeg" ContentType="image/jpeg"/>
  <Override PartName="/ppt/media/Track12.wav" ContentType="audio/x-wav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AC1D-1F19-4176-A03D-BC955AF9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4121-BBBD-4577-86A5-96FBC206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9E98-6E38-4A4F-BE48-AB2C7E00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D82E-3A3F-4797-A10F-B56AE8BC6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A21B-5CB8-4DB5-A878-A8730CF6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D899-94EB-4752-AE6F-5B805DA5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95F4-B8D4-4B44-AC7C-D2D78022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E2BE-AD96-485C-B984-9E1900E3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2712-754D-4108-AF6E-627A798E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785E-F68E-43D2-BB5B-C47B9128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0669-ADC5-41FB-A3E6-66F0CC48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9947-7ADB-425E-891D-34A64740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148E-0292-494C-9ECD-EFFA7355E64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rack12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52280" y="838080"/>
            <a:ext cx="3095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y maestra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">
    <p:wheel spokes="8"/>
    <p:sndAc>
      <p:stSnd>
        <p:snd r:embed="rId2" name="Track12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8648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457880" y="0"/>
            <a:ext cx="468612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1752480" y="609480"/>
            <a:ext cx="5743800" cy="1295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¿En qué otro lugar recibirí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l regalo de sonrisas como éstas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9000">
    <p:split dir="in" orient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828800" y="1523880"/>
            <a:ext cx="5867280" cy="1943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¿En qué otro siti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e harían un retrato gratis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7000">
    <p:strips dir="l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219240" y="457200"/>
            <a:ext cx="4886280" cy="1371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¿En qué lugar mis palabra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usan tanto asombro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7000">
    <p:pull dir="r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191120" y="457200"/>
            <a:ext cx="4752720" cy="16002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¿En qué trabaj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uando faltas dos día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e reciben con los brazos abiertos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8000">
    <p:wipe dir="u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648320" y="838080"/>
            <a:ext cx="4019400" cy="2133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¿Dónde puedes ver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en primera fil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la ejecución d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grandes obras de arte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</p:spTree>
  </p:cSld>
  <p:transition spd="slow" advTm="9000">
    <p:pull dir="l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380880" y="4114800"/>
            <a:ext cx="4848480" cy="2495520"/>
            <a:chOff x="380880" y="4114800"/>
            <a:chExt cx="4848480" cy="2495520"/>
          </a:xfrm>
        </p:grpSpPr>
        <p:sp>
          <p:nvSpPr>
            <p:cNvPr id="89" name=""/>
            <p:cNvSpPr txBox="1"/>
            <p:nvPr/>
          </p:nvSpPr>
          <p:spPr>
            <a:xfrm>
              <a:off x="380880" y="4114800"/>
              <a:ext cx="48484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¿Dónde conservaría el alma joven,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457200" y="4648320"/>
              <a:ext cx="370512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ino en medio de un grupo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533520" y="5181480"/>
              <a:ext cx="420048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uya atención es tan efímera,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533520" y="5715000"/>
              <a:ext cx="444816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que siempre debo tener a mano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533520" y="6248520"/>
              <a:ext cx="327636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a caja de sorpresas?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-9360" y="0"/>
            <a:ext cx="9305640" cy="6858000"/>
            <a:chOff x="-9360" y="0"/>
            <a:chExt cx="9305640" cy="6858000"/>
          </a:xfrm>
        </p:grpSpPr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5105520" y="3403440"/>
              <a:ext cx="4190760" cy="34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-9360" y="0"/>
              <a:ext cx="2414520" cy="3505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10000"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23" presetSubtype="52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3429000" y="4267080"/>
            <a:ext cx="5572080" cy="1523880"/>
            <a:chOff x="3429000" y="4267080"/>
            <a:chExt cx="5572080" cy="1523880"/>
          </a:xfrm>
        </p:grpSpPr>
        <p:sp>
          <p:nvSpPr>
            <p:cNvPr id="99" name=""/>
            <p:cNvSpPr txBox="1"/>
            <p:nvPr/>
          </p:nvSpPr>
          <p:spPr>
            <a:xfrm>
              <a:off x="3429000" y="4267080"/>
              <a:ext cx="541980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6600"/>
                  </a:solidFill>
                  <a:latin typeface="Arial Black"/>
                </a:rPr>
                <a:t>¿En qué otro sitio derramaría lágrimas</a:t>
              </a:r>
              <a:endPara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3581280" y="4895640"/>
              <a:ext cx="541980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6600"/>
                  </a:solidFill>
                  <a:latin typeface="Arial Black"/>
                </a:rPr>
                <a:t>porque hay que dar por terminado</a:t>
              </a:r>
              <a:endPara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3581280" y="5429160"/>
              <a:ext cx="41338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6600"/>
                  </a:solidFill>
                  <a:latin typeface="Arial Black"/>
                </a:rPr>
                <a:t>un año de relaciones felices?</a:t>
              </a:r>
              <a:endPara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  <a:ea typeface="Arial Black"/>
              </a:endParaRPr>
            </a:p>
          </p:txBody>
        </p:sp>
      </p:grpSp>
    </p:spTree>
  </p:cSld>
  <p:transition spd="slow" advTm="8000">
    <p:blinds dir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3429000" y="4114800"/>
            <a:ext cx="3962520" cy="1181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e siento grand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rabajando con pequeño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7000">
    <p:checker dir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380880" y="152280"/>
            <a:ext cx="609624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 todas las maestras y maestro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e tanto siembran para que otros recojan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¡Gracias maestras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7000"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380880" y="152280"/>
            <a:ext cx="7620120" cy="1086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 gracias también a vosotros, que trabajáis con niño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educación especial, tan especiales y maravillosos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1676520"/>
            <a:ext cx="7324920" cy="723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cias a los compañeros de música, por creer, crear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 cultivar el arte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2971800"/>
            <a:ext cx="7115040" cy="723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cias, compañeros de educación física, que c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uestro trabajo hacéis más fácil el de todos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4267080"/>
            <a:ext cx="7829640" cy="723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cias a los que trabajais en la escuela rural, y sabéi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o que es enseñar con frío, goteras y en soledad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5486400"/>
            <a:ext cx="65055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cias a todos mis compañeros de idiomas..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6324480"/>
            <a:ext cx="133344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 todos..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27000">
    <p:strips dir="ru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7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5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990720" y="1752480"/>
            <a:ext cx="7695720" cy="2266200"/>
            <a:chOff x="990720" y="1752480"/>
            <a:chExt cx="7695720" cy="2266200"/>
          </a:xfrm>
        </p:grpSpPr>
        <p:sp>
          <p:nvSpPr>
            <p:cNvPr id="45" name=""/>
            <p:cNvSpPr txBox="1"/>
            <p:nvPr/>
          </p:nvSpPr>
          <p:spPr>
            <a:xfrm>
              <a:off x="1082880" y="1752480"/>
              <a:ext cx="6865920" cy="57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uando digo que soy maestra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1082880" y="2598840"/>
              <a:ext cx="7603560" cy="57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la gente, en general, responde con un "¡Ah!",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990720" y="3444480"/>
              <a:ext cx="7407720" cy="57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n soso, que me gustaría exclamar: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 spd="slow" advTm="8000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1676520" y="2438280"/>
            <a:ext cx="4724280" cy="2438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7093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Escolar1"/>
              </a:rPr>
              <a:t>Gracia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ffffff"/>
                  </a:gs>
                </a:gsLst>
                <a:lin ang="5400000"/>
              </a:gradFill>
              <a:latin typeface="Escolar1"/>
              <a:ea typeface="Escolar1"/>
            </a:endParaRPr>
          </a:p>
        </p:txBody>
      </p:sp>
    </p:spTree>
  </p:cSld>
  <p:transition spd="slow">
    <p:dissolv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380880" y="762120"/>
            <a:ext cx="5286600" cy="1581120"/>
            <a:chOff x="380880" y="762120"/>
            <a:chExt cx="5286600" cy="1581120"/>
          </a:xfrm>
        </p:grpSpPr>
        <p:sp>
          <p:nvSpPr>
            <p:cNvPr id="49" name=""/>
            <p:cNvSpPr txBox="1"/>
            <p:nvPr/>
          </p:nvSpPr>
          <p:spPr>
            <a:xfrm>
              <a:off x="380880" y="762120"/>
              <a:ext cx="528660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 Black"/>
                </a:rPr>
                <a:t>¿Dónde más podría atar lazos al pelo,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0" name=""/>
            <p:cNvSpPr txBox="1"/>
            <p:nvPr/>
          </p:nvSpPr>
          <p:spPr>
            <a:xfrm>
              <a:off x="457200" y="1371600"/>
              <a:ext cx="258120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 Black"/>
                </a:rPr>
                <a:t>ajustar cinturones,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457200" y="1981080"/>
              <a:ext cx="491508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 Black"/>
                </a:rPr>
                <a:t>y ver un desfile de modas a diario?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  <a:ea typeface="Arial Black"/>
              </a:endParaRPr>
            </a:p>
          </p:txBody>
        </p:sp>
      </p:grp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65600" y="304920"/>
            <a:ext cx="4478400" cy="6553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25718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hecker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457200" y="380880"/>
            <a:ext cx="7696080" cy="1047960"/>
            <a:chOff x="457200" y="380880"/>
            <a:chExt cx="7696080" cy="1047960"/>
          </a:xfrm>
        </p:grpSpPr>
        <p:sp>
          <p:nvSpPr>
            <p:cNvPr id="56" name=""/>
            <p:cNvSpPr txBox="1"/>
            <p:nvPr/>
          </p:nvSpPr>
          <p:spPr>
            <a:xfrm>
              <a:off x="457200" y="380880"/>
              <a:ext cx="769608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¿Dónde, aunque siempre me vista de la misma manera,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609480" y="1066680"/>
              <a:ext cx="493416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e dirán que mi vestido es bonito?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 spd="slow" advTm="8000"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304920" y="304920"/>
            <a:ext cx="4943520" cy="1428480"/>
            <a:chOff x="304920" y="304920"/>
            <a:chExt cx="4943520" cy="1428480"/>
          </a:xfrm>
        </p:grpSpPr>
        <p:sp>
          <p:nvSpPr>
            <p:cNvPr id="60" name=""/>
            <p:cNvSpPr txBox="1"/>
            <p:nvPr/>
          </p:nvSpPr>
          <p:spPr>
            <a:xfrm>
              <a:off x="304920" y="304920"/>
              <a:ext cx="31906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¿En qué sitio, sino allí,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380880" y="838080"/>
              <a:ext cx="486756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e abrazaría un apuesto jovencito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380880" y="1371600"/>
              <a:ext cx="363852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y me dirá que me quiere?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 spd="slow" advTm="8000">
    <p:checker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533520" y="4648320"/>
            <a:ext cx="4647960" cy="1981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¿Dónde eres tan important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e hasta le has de limpiar los moco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 la estrella del desfile?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8000">
    <p:cover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533520" y="5200560"/>
            <a:ext cx="6067440" cy="1428840"/>
            <a:chOff x="533520" y="5200560"/>
            <a:chExt cx="6067440" cy="1428840"/>
          </a:xfrm>
        </p:grpSpPr>
        <p:sp>
          <p:nvSpPr>
            <p:cNvPr id="67" name=""/>
            <p:cNvSpPr txBox="1"/>
            <p:nvPr/>
          </p:nvSpPr>
          <p:spPr>
            <a:xfrm>
              <a:off x="533520" y="5200560"/>
              <a:ext cx="543852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 Black"/>
                </a:rPr>
                <a:t>¿En qué otra parte olvidaría mis penas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533520" y="5734080"/>
              <a:ext cx="606744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 Black"/>
                </a:rPr>
                <a:t>porque tengo que atender tantos arañazos,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533520" y="6267240"/>
              <a:ext cx="408600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 Black"/>
                </a:rPr>
                <a:t>cocos y corazones afligidos?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  <a:ea typeface="Arial Black"/>
              </a:endParaRPr>
            </a:p>
          </p:txBody>
        </p:sp>
      </p:grpSp>
    </p:spTree>
  </p:cSld>
  <p:transition spd="slow" advTm="8000"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609480" y="5638680"/>
            <a:ext cx="469584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¿Quién recibe más flores que yo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6000"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33520" y="4876920"/>
            <a:ext cx="5305320" cy="1447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¿Dónde más podría guiar</a:t>
            </a:r>
            <a:endParaRPr b="0" lang="en-US" sz="20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n la escritura de las primeras letras,</a:t>
            </a:r>
            <a:endParaRPr b="0" lang="en-US" sz="20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na manita que quizás algún día</a:t>
            </a:r>
            <a:endParaRPr b="0" lang="en-US" sz="20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scriba un libro?</a:t>
            </a:r>
            <a:endParaRPr b="0" lang="en-US" sz="20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slow" advTm="8000">
    <p:randomBar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12:20:38Z</dcterms:created>
  <dc:creator> </dc:creator>
  <dc:description/>
  <dc:language>en-US</dc:language>
  <cp:lastModifiedBy>*</cp:lastModifiedBy>
  <dcterms:modified xsi:type="dcterms:W3CDTF">2008-07-02T20:25:35Z</dcterms:modified>
  <cp:revision>52</cp:revision>
  <dc:subject/>
  <dc:title>Presentación de PowerPoint</dc:title>
</cp:coreProperties>
</file>